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440" y="8634240"/>
            <a:ext cx="150012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67880" y="220680"/>
            <a:ext cx="5550120" cy="41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lick to move the slid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56800" y="4500360"/>
            <a:ext cx="537228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Click to edit the notes format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86" name=""/>
          <p:cNvSpPr/>
          <p:nvPr/>
        </p:nvSpPr>
        <p:spPr>
          <a:xfrm>
            <a:off x="2739960" y="8702640"/>
            <a:ext cx="377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049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6FD352-BC2A-4A62-B9F1-B254015D11FB}" type="slidenum">
              <a:rPr b="0" lang="en-US" sz="900" spc="-1" strike="noStrike">
                <a:solidFill>
                  <a:srgbClr val="1e4191"/>
                </a:solidFill>
                <a:latin typeface="GE Inspira"/>
              </a:rPr>
              <a:t>&lt;number&gt;</a:t>
            </a:fld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ts val="1049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GE 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footer&gt;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 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date/time&gt;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68240" y="220680"/>
            <a:ext cx="5550120" cy="4162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56800" y="4500360"/>
            <a:ext cx="5372280" cy="4159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Do not want to store LOINC, SNOMED code directly by design. We link to external coded terminology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1. Impossible to correct errors made in standard terminology, I.e. SNOMED, unless change database. If use mapping, then can just change the mapping to correct the error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2. Standard terminology makes mistakes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31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7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416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31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7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4520" y="263520"/>
            <a:ext cx="84009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31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7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416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31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7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4520" y="263520"/>
            <a:ext cx="84009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1" marL="313920" indent="-31248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2" marL="684720" indent="-26532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3" marL="1054440" indent="-26424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4" marL="1422360" indent="-26280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5" marL="1422360" indent="-26280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6" marL="1422360" indent="-26280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" name=""/>
          <p:cNvSpPr/>
          <p:nvPr/>
        </p:nvSpPr>
        <p:spPr>
          <a:xfrm>
            <a:off x="6442200" y="6229440"/>
            <a:ext cx="24555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4313-F7D0-4B4F-9434-F3037F21ADE1}" type="slidenum">
              <a:rPr b="0" lang="en-US" sz="900" spc="-1" strike="noStrike">
                <a:solidFill>
                  <a:srgbClr val="1e4191"/>
                </a:solidFill>
                <a:latin typeface="GE Inspira"/>
              </a:rPr>
              <a:t>&lt;number&gt;</a:t>
            </a:fld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ECIS 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footer&gt;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70E6-2765-48C8-B466-76E8D7FD58B9}" type="datetime">
              <a:rPr b="0" lang="en-US" sz="900" spc="-1" strike="noStrike">
                <a:solidFill>
                  <a:srgbClr val="1e4191"/>
                </a:solidFill>
                <a:latin typeface="GE Inspira"/>
              </a:rPr>
              <a:t>07/31/26</a:t>
            </a:fld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77720" y="616428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4" name="HLTH_H_BP" descr=""/>
          <p:cNvPicPr/>
          <p:nvPr/>
        </p:nvPicPr>
        <p:blipFill>
          <a:blip r:embed="rId3"/>
          <a:stretch/>
        </p:blipFill>
        <p:spPr>
          <a:xfrm>
            <a:off x="1106640" y="6116760"/>
            <a:ext cx="2657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980" b="0"/>
          <a:stretch/>
        </p:blipFill>
        <p:spPr>
          <a:xfrm>
            <a:off x="3352680" y="2414520"/>
            <a:ext cx="5791320" cy="444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e4191"/>
                </a:solidFill>
                <a:latin typeface="GE Inspira"/>
              </a:rPr>
              <a:t>Click to edit the title text format</a:t>
            </a: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7720" y="616428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44" name="HLTH_H_BP" descr=""/>
          <p:cNvPicPr/>
          <p:nvPr/>
        </p:nvPicPr>
        <p:blipFill>
          <a:blip r:embed="rId4"/>
          <a:stretch/>
        </p:blipFill>
        <p:spPr>
          <a:xfrm>
            <a:off x="1049400" y="6124680"/>
            <a:ext cx="265752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8b9f5"/>
                </a:solidFill>
                <a:latin typeface="GE Inspira"/>
              </a:rPr>
              <a:t>Click to edit the outline text format</a:t>
            </a: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  <a:p>
            <a:pPr lvl="1" marL="144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Second Outline Level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344520" indent="111240" algn="ctr">
              <a:lnSpc>
                <a:spcPct val="90000"/>
              </a:lnSpc>
              <a:spcBef>
                <a:spcPts val="499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Third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3" marL="689040" indent="169920" algn="ctr">
              <a:lnSpc>
                <a:spcPct val="90000"/>
              </a:lnSpc>
              <a:spcBef>
                <a:spcPts val="249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our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4" marL="1030320" indent="230040" algn="ctr">
              <a:lnSpc>
                <a:spcPct val="90000"/>
              </a:lnSpc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if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5" marL="1030320" indent="230040">
              <a:spcBef>
                <a:spcPts val="499"/>
              </a:spcBef>
              <a:buClr>
                <a:srgbClr val="1e4191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ix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6" marL="1030320" indent="230040">
              <a:spcBef>
                <a:spcPts val="499"/>
              </a:spcBef>
              <a:buClr>
                <a:srgbClr val="1e4191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even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117612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4191"/>
                </a:solidFill>
                <a:latin typeface="GE Inspira"/>
              </a:rPr>
              <a:t>Clinical Element Models</a:t>
            </a:r>
            <a:endParaRPr b="0" lang="en-US" sz="4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8" name=""/>
          <p:cNvSpPr/>
          <p:nvPr/>
        </p:nvSpPr>
        <p:spPr>
          <a:xfrm>
            <a:off x="829440" y="2533680"/>
            <a:ext cx="748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3C Semantic Web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lthcare and Life Sciences Interest Group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November 8, 2007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Tom Oniki, PhD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r. Medical Informaticis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Intermountain Healthca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alt Lake City, U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Value Choic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Data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Value conveyed as an HL7 version 3 data typ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Item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Value conveyed by multiple Clinical Elements collectivel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77920"/>
            <a:ext cx="4883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88920" y="1531800"/>
            <a:ext cx="297648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inical Elemen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0" name=""/>
          <p:cNvSpPr/>
          <p:nvPr/>
        </p:nvSpPr>
        <p:spPr>
          <a:xfrm>
            <a:off x="1871640" y="222552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yp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1" name=""/>
          <p:cNvSpPr/>
          <p:nvPr/>
        </p:nvSpPr>
        <p:spPr>
          <a:xfrm>
            <a:off x="1871640" y="33098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2" name=""/>
          <p:cNvSpPr/>
          <p:nvPr/>
        </p:nvSpPr>
        <p:spPr>
          <a:xfrm>
            <a:off x="3316320" y="2149560"/>
            <a:ext cx="48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Meas (concept tha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“our model for captur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 blood pressure measurements”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3" name=""/>
          <p:cNvSpPr/>
          <p:nvPr/>
        </p:nvSpPr>
        <p:spPr>
          <a:xfrm>
            <a:off x="3317040" y="3243240"/>
            <a:ext cx="51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(“real world” concept;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mapped to SNOMED code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4" name=""/>
          <p:cNvSpPr/>
          <p:nvPr/>
        </p:nvSpPr>
        <p:spPr>
          <a:xfrm>
            <a:off x="1871640" y="429732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5" name=""/>
          <p:cNvSpPr/>
          <p:nvPr/>
        </p:nvSpPr>
        <p:spPr>
          <a:xfrm>
            <a:off x="3314520" y="435780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6" name=""/>
          <p:cNvSpPr/>
          <p:nvPr/>
        </p:nvSpPr>
        <p:spPr>
          <a:xfrm>
            <a:off x="1716120" y="420372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Simple Observation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88920" y="1531800"/>
            <a:ext cx="404496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9" name=""/>
          <p:cNvSpPr/>
          <p:nvPr/>
        </p:nvSpPr>
        <p:spPr>
          <a:xfrm>
            <a:off x="1871640" y="2214720"/>
            <a:ext cx="1220760" cy="49500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0" name=""/>
          <p:cNvSpPr/>
          <p:nvPr/>
        </p:nvSpPr>
        <p:spPr>
          <a:xfrm>
            <a:off x="3317040" y="2147760"/>
            <a:ext cx="51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(“real world” concept;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mapped to SNOMED code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1" name=""/>
          <p:cNvSpPr/>
          <p:nvPr/>
        </p:nvSpPr>
        <p:spPr>
          <a:xfrm>
            <a:off x="1871640" y="3011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2" name=""/>
          <p:cNvSpPr/>
          <p:nvPr/>
        </p:nvSpPr>
        <p:spPr>
          <a:xfrm>
            <a:off x="3314520" y="30718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3" name=""/>
          <p:cNvSpPr/>
          <p:nvPr/>
        </p:nvSpPr>
        <p:spPr>
          <a:xfrm>
            <a:off x="1716120" y="291780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Simple Observation (shorthand)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88920" y="1123920"/>
            <a:ext cx="2976480" cy="4302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loodPressurePan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6" name=""/>
          <p:cNvSpPr/>
          <p:nvPr/>
        </p:nvSpPr>
        <p:spPr>
          <a:xfrm>
            <a:off x="1871640" y="164952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7" name=""/>
          <p:cNvSpPr/>
          <p:nvPr/>
        </p:nvSpPr>
        <p:spPr>
          <a:xfrm>
            <a:off x="3323520" y="16336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8" name=""/>
          <p:cNvSpPr/>
          <p:nvPr/>
        </p:nvSpPr>
        <p:spPr>
          <a:xfrm>
            <a:off x="1852560" y="2098800"/>
            <a:ext cx="1220760" cy="34740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tem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9" name=""/>
          <p:cNvSpPr/>
          <p:nvPr/>
        </p:nvSpPr>
        <p:spPr>
          <a:xfrm>
            <a:off x="1322280" y="2041560"/>
            <a:ext cx="7253280" cy="3670200"/>
          </a:xfrm>
          <a:prstGeom prst="roundRect">
            <a:avLst>
              <a:gd name="adj" fmla="val 208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panel containing two observation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1" name=""/>
          <p:cNvSpPr/>
          <p:nvPr/>
        </p:nvSpPr>
        <p:spPr>
          <a:xfrm>
            <a:off x="2370240" y="2503440"/>
            <a:ext cx="3620880" cy="40968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2" name=""/>
          <p:cNvSpPr/>
          <p:nvPr/>
        </p:nvSpPr>
        <p:spPr>
          <a:xfrm>
            <a:off x="3252960" y="301464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3" name=""/>
          <p:cNvSpPr/>
          <p:nvPr/>
        </p:nvSpPr>
        <p:spPr>
          <a:xfrm>
            <a:off x="4703760" y="29862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4" name=""/>
          <p:cNvSpPr/>
          <p:nvPr/>
        </p:nvSpPr>
        <p:spPr>
          <a:xfrm>
            <a:off x="3252960" y="3487680"/>
            <a:ext cx="1220760" cy="3747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5" name=""/>
          <p:cNvSpPr/>
          <p:nvPr/>
        </p:nvSpPr>
        <p:spPr>
          <a:xfrm>
            <a:off x="4695840" y="3462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6" name=""/>
          <p:cNvSpPr/>
          <p:nvPr/>
        </p:nvSpPr>
        <p:spPr>
          <a:xfrm>
            <a:off x="3097080" y="3432240"/>
            <a:ext cx="3175200" cy="48888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7" name=""/>
          <p:cNvSpPr/>
          <p:nvPr/>
        </p:nvSpPr>
        <p:spPr>
          <a:xfrm>
            <a:off x="2370240" y="4037040"/>
            <a:ext cx="3620880" cy="40968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ia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8" name=""/>
          <p:cNvSpPr/>
          <p:nvPr/>
        </p:nvSpPr>
        <p:spPr>
          <a:xfrm>
            <a:off x="3252960" y="454824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9" name=""/>
          <p:cNvSpPr/>
          <p:nvPr/>
        </p:nvSpPr>
        <p:spPr>
          <a:xfrm>
            <a:off x="4704120" y="451944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0" name=""/>
          <p:cNvSpPr/>
          <p:nvPr/>
        </p:nvSpPr>
        <p:spPr>
          <a:xfrm>
            <a:off x="3252960" y="5021280"/>
            <a:ext cx="1220760" cy="3747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1" name=""/>
          <p:cNvSpPr/>
          <p:nvPr/>
        </p:nvSpPr>
        <p:spPr>
          <a:xfrm>
            <a:off x="4695840" y="49957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2" name=""/>
          <p:cNvSpPr/>
          <p:nvPr/>
        </p:nvSpPr>
        <p:spPr>
          <a:xfrm>
            <a:off x="3097080" y="4965840"/>
            <a:ext cx="3175200" cy="48888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Qualifiers of the Value Choic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Qualifier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–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CEM’s which give more information about the Value Choice.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45" name="quals" descr=""/>
          <p:cNvPicPr/>
          <p:nvPr/>
        </p:nvPicPr>
        <p:blipFill>
          <a:blip r:embed="rId1"/>
          <a:stretch/>
        </p:blipFill>
        <p:spPr>
          <a:xfrm>
            <a:off x="487440" y="1101600"/>
            <a:ext cx="4182840" cy="2765520"/>
          </a:xfrm>
          <a:prstGeom prst="rect">
            <a:avLst/>
          </a:prstGeom>
          <a:ln w="0">
            <a:noFill/>
          </a:ln>
        </p:spPr>
      </p:pic>
      <p:pic>
        <p:nvPicPr>
          <p:cNvPr id="146" name="qual2" descr=""/>
          <p:cNvPicPr/>
          <p:nvPr/>
        </p:nvPicPr>
        <p:blipFill>
          <a:blip r:embed="rId2"/>
          <a:stretch/>
        </p:blipFill>
        <p:spPr>
          <a:xfrm>
            <a:off x="581040" y="3924360"/>
            <a:ext cx="337176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8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9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0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1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2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5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6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7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8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9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8432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qual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2" name=""/>
          <p:cNvSpPr/>
          <p:nvPr/>
        </p:nvSpPr>
        <p:spPr>
          <a:xfrm>
            <a:off x="3271680" y="464976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3" name=""/>
          <p:cNvSpPr/>
          <p:nvPr/>
        </p:nvSpPr>
        <p:spPr>
          <a:xfrm>
            <a:off x="4717080" y="47102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4" name=""/>
          <p:cNvSpPr/>
          <p:nvPr/>
        </p:nvSpPr>
        <p:spPr>
          <a:xfrm>
            <a:off x="3116160" y="455616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5" name=""/>
          <p:cNvSpPr/>
          <p:nvPr/>
        </p:nvSpPr>
        <p:spPr>
          <a:xfrm>
            <a:off x="3271680" y="399564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6" name=""/>
          <p:cNvSpPr/>
          <p:nvPr/>
        </p:nvSpPr>
        <p:spPr>
          <a:xfrm>
            <a:off x="4725000" y="4024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7" name=""/>
          <p:cNvSpPr/>
          <p:nvPr/>
        </p:nvSpPr>
        <p:spPr>
          <a:xfrm>
            <a:off x="2513160" y="339876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9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0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2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3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5" name=""/>
          <p:cNvSpPr/>
          <p:nvPr/>
        </p:nvSpPr>
        <p:spPr>
          <a:xfrm>
            <a:off x="1871640" y="28432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qual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6" name=""/>
          <p:cNvSpPr/>
          <p:nvPr/>
        </p:nvSpPr>
        <p:spPr>
          <a:xfrm>
            <a:off x="3271680" y="464976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7" name=""/>
          <p:cNvSpPr/>
          <p:nvPr/>
        </p:nvSpPr>
        <p:spPr>
          <a:xfrm>
            <a:off x="4717080" y="47102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8" name=""/>
          <p:cNvSpPr/>
          <p:nvPr/>
        </p:nvSpPr>
        <p:spPr>
          <a:xfrm>
            <a:off x="3116160" y="455616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9" name=""/>
          <p:cNvSpPr/>
          <p:nvPr/>
        </p:nvSpPr>
        <p:spPr>
          <a:xfrm>
            <a:off x="3271680" y="399564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0" name=""/>
          <p:cNvSpPr/>
          <p:nvPr/>
        </p:nvSpPr>
        <p:spPr>
          <a:xfrm>
            <a:off x="4725000" y="4024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1" name=""/>
          <p:cNvSpPr/>
          <p:nvPr/>
        </p:nvSpPr>
        <p:spPr>
          <a:xfrm>
            <a:off x="2513160" y="339876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2" name=""/>
          <p:cNvSpPr/>
          <p:nvPr/>
        </p:nvSpPr>
        <p:spPr>
          <a:xfrm>
            <a:off x="3244320" y="5605560"/>
            <a:ext cx="56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0000"/>
                </a:solidFill>
                <a:latin typeface="GE Inspira"/>
              </a:rPr>
              <a:t>Controlled Terminology Codes!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32240" y="2727360"/>
            <a:ext cx="0" cy="2930400"/>
          </a:xfrm>
          <a:prstGeom prst="line">
            <a:avLst/>
          </a:prstGeom>
          <a:ln w="57240">
            <a:solidFill>
              <a:srgbClr val="e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273280" y="5219280"/>
            <a:ext cx="3240" cy="414360"/>
          </a:xfrm>
          <a:prstGeom prst="line">
            <a:avLst/>
          </a:prstGeom>
          <a:ln w="57240">
            <a:solidFill>
              <a:srgbClr val="e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5" name=""/>
          <p:cNvSpPr/>
          <p:nvPr/>
        </p:nvSpPr>
        <p:spPr>
          <a:xfrm>
            <a:off x="4579920" y="4626000"/>
            <a:ext cx="1389240" cy="538200"/>
          </a:xfrm>
          <a:prstGeom prst="ellipse">
            <a:avLst/>
          </a:prstGeom>
          <a:noFill/>
          <a:ln w="3816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6" name=""/>
          <p:cNvSpPr/>
          <p:nvPr/>
        </p:nvSpPr>
        <p:spPr>
          <a:xfrm>
            <a:off x="3774960" y="2171880"/>
            <a:ext cx="1098720" cy="537840"/>
          </a:xfrm>
          <a:prstGeom prst="ellipse">
            <a:avLst/>
          </a:prstGeom>
          <a:noFill/>
          <a:ln w="3816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4191"/>
                </a:solidFill>
                <a:latin typeface="GE Inspira"/>
              </a:rPr>
              <a:t>Modeling Issues</a:t>
            </a:r>
            <a:endParaRPr b="0" lang="en-US" sz="4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cknowledgement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127476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tan Huff, Joey Coyle, Craig Parker, Yan Heras, and many others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1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5080" y="2003040"/>
            <a:ext cx="8459640" cy="21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Fortunately, we store SNOMED CT codes.  I see this patient had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Numbness (44077006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Right (24028007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Arm (40983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ft (7771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g (30021000) 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5080" y="2003400"/>
            <a:ext cx="84596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Fortunately, we store SNOMED CT codes.  I see this patient had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Numbness (44077006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Right (24028007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Arm (40983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ft (7771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g (30021000) 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But does this mean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right arm and left leg?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left arm and right leg? 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both arms and legs?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88720" y="1260360"/>
            <a:ext cx="821844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hat if </a:t>
            </a:r>
            <a:r>
              <a:rPr b="0" lang="en-US" sz="28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stored/accessed as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ry 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8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40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88720" y="1260360"/>
            <a:ext cx="821844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hat if </a:t>
            </a:r>
            <a:r>
              <a:rPr b="0" lang="en-US" sz="28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stored/accessed as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ry 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combination of  two names/codes and valu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1a02"/>
                </a:solidFill>
                <a:latin typeface="GE Inspira"/>
              </a:rPr>
              <a:t>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1a02"/>
                </a:solidFill>
                <a:latin typeface="GE Inspira"/>
              </a:rPr>
              <a:t>Weight typ</a:t>
            </a: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dry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1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3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d1e07"/>
                </a:solidFill>
                <a:latin typeface="GE Inspira"/>
              </a:rPr>
              <a:t>are there any other ways??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7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d1e07"/>
                </a:solidFill>
                <a:latin typeface="GE Inspira"/>
              </a:rPr>
              <a:t>are there any other ways??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0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1" name=""/>
          <p:cNvSpPr/>
          <p:nvPr/>
        </p:nvSpPr>
        <p:spPr>
          <a:xfrm>
            <a:off x="366840" y="48974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We want to store only one way!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88720" y="197460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Stored/accessed as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Right Arm Cuff 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 </a:t>
            </a: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The combination of multiple names/codes and valu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4" marL="1546200" indent="-285840">
              <a:lnSpc>
                <a:spcPct val="90000"/>
              </a:lnSpc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 Laterality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4" name=""/>
          <p:cNvSpPr/>
          <p:nvPr/>
        </p:nvSpPr>
        <p:spPr>
          <a:xfrm>
            <a:off x="285840" y="9968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Another example: “Systolic Blood Pressure Taken from the Right Arm with a Cuff”</a:t>
            </a:r>
            <a:br>
              <a:rPr sz="3200"/>
            </a:b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8720" y="197460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Even if we store it this way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8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4" marL="1546200" indent="-285840">
              <a:lnSpc>
                <a:spcPct val="80000"/>
              </a:lnSpc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 Laterality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A UI will want to present it this way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8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 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e4191"/>
                </a:solidFill>
                <a:latin typeface="GE Inspira"/>
              </a:rPr>
              <a:t>We need a conversion mechanism – just like we need for converting to Clinical Trials models!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7" name=""/>
          <p:cNvSpPr/>
          <p:nvPr/>
        </p:nvSpPr>
        <p:spPr>
          <a:xfrm>
            <a:off x="285840" y="9968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Another example: “Systolic Blood Pressure Taken from the Right Arm with a Cuff”</a:t>
            </a:r>
            <a:br>
              <a:rPr sz="3200"/>
            </a:b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88920" y="1036800"/>
            <a:ext cx="35830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9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0" name=""/>
          <p:cNvSpPr/>
          <p:nvPr/>
        </p:nvSpPr>
        <p:spPr>
          <a:xfrm>
            <a:off x="3322800" y="17668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1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2" name=""/>
          <p:cNvSpPr/>
          <p:nvPr/>
        </p:nvSpPr>
        <p:spPr>
          <a:xfrm>
            <a:off x="3314520" y="2576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3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5" name=""/>
          <p:cNvSpPr/>
          <p:nvPr/>
        </p:nvSpPr>
        <p:spPr>
          <a:xfrm>
            <a:off x="992160" y="3621240"/>
            <a:ext cx="377352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6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7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8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9" name=""/>
          <p:cNvSpPr/>
          <p:nvPr/>
        </p:nvSpPr>
        <p:spPr>
          <a:xfrm>
            <a:off x="3312000" y="516096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= 120 mm Hg”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0" name=""/>
          <p:cNvSpPr/>
          <p:nvPr/>
        </p:nvSpPr>
        <p:spPr>
          <a:xfrm>
            <a:off x="1719360" y="5006880"/>
            <a:ext cx="612756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600" y="171000"/>
            <a:ext cx="6257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Intermountain Healthcar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083960"/>
            <a:ext cx="8461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lth Delivery Network, not-for-profit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Serving Utah and Southern Idaho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21 Hospitals/ 2105 beds/150 Clinic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Medical Group of 550 employed physician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Insurance plan of 500,000 covered liv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$85M/year charitable care exclusive of bad deb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27,000 employe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Partner in the Utah Health Information Network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88920" y="1036800"/>
            <a:ext cx="35830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2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3" name=""/>
          <p:cNvSpPr/>
          <p:nvPr/>
        </p:nvSpPr>
        <p:spPr>
          <a:xfrm>
            <a:off x="3322800" y="17668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4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5" name=""/>
          <p:cNvSpPr/>
          <p:nvPr/>
        </p:nvSpPr>
        <p:spPr>
          <a:xfrm>
            <a:off x="3314520" y="2576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6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7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8" name=""/>
          <p:cNvSpPr/>
          <p:nvPr/>
        </p:nvSpPr>
        <p:spPr>
          <a:xfrm>
            <a:off x="992160" y="3621240"/>
            <a:ext cx="377352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9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0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1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2" name=""/>
          <p:cNvSpPr/>
          <p:nvPr/>
        </p:nvSpPr>
        <p:spPr>
          <a:xfrm>
            <a:off x="3312000" y="516096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= 120 mm Hg”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3" name=""/>
          <p:cNvSpPr/>
          <p:nvPr/>
        </p:nvSpPr>
        <p:spPr>
          <a:xfrm>
            <a:off x="1719360" y="5006880"/>
            <a:ext cx="612756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0160" y="3359160"/>
            <a:ext cx="6960960" cy="2622600"/>
            <a:chOff x="830160" y="3359160"/>
            <a:chExt cx="6960960" cy="2622600"/>
          </a:xfrm>
        </p:grpSpPr>
        <p:sp>
          <p:nvSpPr>
            <p:cNvPr id="245" name=""/>
            <p:cNvSpPr/>
            <p:nvPr/>
          </p:nvSpPr>
          <p:spPr>
            <a:xfrm>
              <a:off x="830160" y="3359160"/>
              <a:ext cx="6932880" cy="2612880"/>
            </a:xfrm>
            <a:prstGeom prst="line">
              <a:avLst/>
            </a:prstGeom>
            <a:ln w="381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e4191"/>
                </a:solidFill>
                <a:latin typeface="GE Inspira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58600" y="3368520"/>
              <a:ext cx="6932520" cy="2613240"/>
            </a:xfrm>
            <a:prstGeom prst="line">
              <a:avLst/>
            </a:prstGeom>
            <a:ln w="381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e4191"/>
                </a:solidFill>
                <a:latin typeface="GE Inspi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88920" y="103680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sthma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8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9" name=""/>
          <p:cNvSpPr/>
          <p:nvPr/>
        </p:nvSpPr>
        <p:spPr>
          <a:xfrm>
            <a:off x="3324240" y="17668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0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1" name=""/>
          <p:cNvSpPr/>
          <p:nvPr/>
        </p:nvSpPr>
        <p:spPr>
          <a:xfrm>
            <a:off x="3315240" y="25765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2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3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88920" y="103680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HairColor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6" name=""/>
          <p:cNvSpPr/>
          <p:nvPr/>
        </p:nvSpPr>
        <p:spPr>
          <a:xfrm>
            <a:off x="3324600" y="17668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rColor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7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8" name=""/>
          <p:cNvSpPr/>
          <p:nvPr/>
        </p:nvSpPr>
        <p:spPr>
          <a:xfrm>
            <a:off x="3316320" y="25765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nd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9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1" name=""/>
          <p:cNvSpPr/>
          <p:nvPr/>
        </p:nvSpPr>
        <p:spPr>
          <a:xfrm>
            <a:off x="992160" y="362124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HairColor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2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3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4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5" name=""/>
          <p:cNvSpPr/>
          <p:nvPr/>
        </p:nvSpPr>
        <p:spPr>
          <a:xfrm>
            <a:off x="3317760" y="516096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nde Hair Color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6" name=""/>
          <p:cNvSpPr/>
          <p:nvPr/>
        </p:nvSpPr>
        <p:spPr>
          <a:xfrm>
            <a:off x="1719360" y="500688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ommon Processing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2720" y="124128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rt Rates and Blood Pressures both have body locations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They aren’t the same body locations, but an application may want to process them similarly, e.g., display them in the same column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o we create a parent “things with body locations”?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marL="287280" indent="-287280">
              <a:lnSpc>
                <a:spcPct val="8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Vision changes and Weight changes don’t have much in common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But an application may want to display/capture “things that have changed” since the last visit.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o we create a parent “things that can change”?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ings we seek: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1117080"/>
            <a:ext cx="84596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Explicit models for data elements – </a:t>
            </a:r>
            <a:r>
              <a:rPr b="0" i="1" lang="en-US" sz="2800" spc="-1" strike="noStrike">
                <a:solidFill>
                  <a:srgbClr val="1e4191"/>
                </a:solidFill>
                <a:latin typeface="GE Inspira"/>
              </a:rPr>
              <a:t>including standardized coded terminolog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way (or at least a very few well-defined ways) to store/access a data elemen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tandard or “interlingua” for models that make them shareable between institution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Extensibilit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pplications that address data genericall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Statu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124128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e’re in the process of creating models as part of our partnership with G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have very few of the items on the functional requirements xl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do not have any data stored against our models yet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can discuss creating the needed model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1e4191"/>
                </a:solidFill>
                <a:latin typeface="GE Inspira"/>
              </a:rPr>
              <a:t>Questions?</a:t>
            </a:r>
            <a:endParaRPr b="0" lang="en-US" sz="6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essentials of the proposition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965160"/>
            <a:ext cx="845964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need for the clinical models is dictated by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what we want to accomplish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as providers of health car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best clinical car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requires the use of computerized clinical decision support and automated data analysi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Clinical decision suppor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and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automated data analysi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can only function against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standard structured coded data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Detailed clinical model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provide the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standard structure and terminology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needed for clinical decision support and automated data analysi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One important clinical decision support and automated data analysis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use cas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clinical trials recruitmen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Clinical Element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3000" y="109836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Intermountain Healthcare’s design for detailed clinical models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Evolution and refinement of The Clinical Event Model which Intermountain has been using for the past 12 years.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~200 million instances of clinical data stored in our repository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What do we model using Clinical Element Models (CEMs)?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240" y="1609560"/>
            <a:ext cx="84596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All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data in the patient’s EMR, including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Allergi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roblem lis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Laboratory resul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Medication and diagnostic order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Medication administra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hysical exam and clinical measuremen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igns, symptoms, diagnos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Clinical documen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rocedur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amily history, medical history and review of symptom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How will Clinical Element models be used?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4800" y="1285560"/>
            <a:ext cx="846000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Interfac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Core servic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ecision logic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ata entry screens, flow sheets, reports, ad hoc queri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Does </a:t>
            </a:r>
            <a:r>
              <a:rPr b="1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NO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dictate physical storage strateg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1639800"/>
            <a:ext cx="867600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etype name="SystolicBloodPressureMeas"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key code="SystolicBloodPressureMeas_KEY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qual name="bodyPosition" card="0-1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qual.bodyPosition.data.cwe.domain" 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value="BloodPressureBodyPosition_DOMAIN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data.pq.unit.domain" 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value="PressureUnitOfMeasure_DOMAIN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data.pq.unit.preferred" value="mmHg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/cetype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Systolic Blood Pressure Example in CEM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Clinical Element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Typ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The name of a particular model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Key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- Real world concept. Links model to an external coded terminology.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Value Choic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Possible ways to convey the model’s value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177920"/>
            <a:ext cx="4883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3:49:42Z</dcterms:created>
  <dc:creator/>
  <dc:description>General Electric Company 2004</dc:description>
  <cp:keywords>September 22 2004 – Version 1.1</cp:keywords>
  <dc:language>en-US</dc:language>
  <cp:lastModifiedBy>Tom Oniki</cp:lastModifiedBy>
  <cp:lastPrinted>2003-08-29T14:38:12Z</cp:lastPrinted>
  <dcterms:modified xsi:type="dcterms:W3CDTF">2007-11-07T05:08:54Z</dcterms:modified>
  <cp:revision>2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